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548-136E-4355-85E1-EB7A47FA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EF5-E062-4C05-8D69-95420B6B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8EC-D29B-4DED-B0B3-A43391E7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93ED-A4F8-4720-99C8-20C193D2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FACC-38A3-4DCF-871E-F869046D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5D6A-7D4F-4FAA-A8C0-5D4C540F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C7D7-9A05-42FA-A8E9-643E38FD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224C-590F-4ABC-9869-5C8187DA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36DA-E94D-4D43-9D16-60D7BA67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D0F3-1208-40F6-A4F4-FA1F6DD5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8A91-B0EB-4DA1-8722-D1E003C3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A8D8-16F7-44F5-B83D-878A9ECD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0840-ACA8-4994-B32D-94F96083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9A66-9B6A-441F-A3DC-BB12296F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D398-0B40-45E9-8A2E-BB7634F8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B2B3-EC6F-44CA-B294-9BA1E778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272F-CC84-4276-82EA-635DD305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93368-0533-46C4-88C9-D1C1C336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4D755-9EE8-4D2B-9943-1DD3532A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6FA73-E3DC-4981-A68A-568D1D1B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450A4-082B-4C65-B59C-AC5EBC94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0ED03-0AC3-4B42-8F33-FD3047E1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59D-6D3E-48B9-93F0-8AC4C6AC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4BF0B-FEAA-4860-9D66-F8C8C5D6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4C0A2-5A79-4E0C-B83D-7C4AB965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B09A0-B67B-47B2-A141-7F8BC99D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935C6-6B27-4F41-ADE0-CF787F85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F415E-0AF8-452F-BA3B-4117903D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FA897-4334-42EE-A904-EE9B7470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8CC28-48C0-43EB-B761-5325E6F8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FA3A2-7445-4EEF-AC3E-1D796E36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2BCAA-92D2-44CA-BCCE-C24B6701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CBA14-E0E9-4CE8-86E4-9B9C7CA1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D8F-1911-444E-BACF-69084548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76D05-E722-4365-9E2F-F8B0CB0C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19803-AED5-4044-96D1-79D9E840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F8209-D8D6-450E-9907-E0A2D41E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D8415-CBE2-4405-8125-66741E3F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0E5C8-76C1-4DEB-A4A8-666BC217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B45AB-387C-47FC-B7D3-556D1999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BC393-30EC-418E-9614-E95E2B97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38153-1C40-4E28-BBE0-67A1FEC5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238E8-5640-43C0-9937-ABC18CB5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2B39C-3BE3-45F4-9676-3AEC4CB1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CA7-52CA-46F1-92C6-AC509256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2E13F-EAB4-4349-948E-1603369D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D7ABC-9D13-4885-9384-7C32DD0D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4E731-A60B-4AD8-9023-124A934B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183A7-6D08-40E3-BC18-C2DD47FA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63396-EF00-4A7E-A203-A8AF780D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84A54-5402-4133-84C2-AB42C5FA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B09EF-EAA4-4F3D-8E2C-2CCC4DD5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8BC2B-6393-4C32-9DCE-425AB984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24AFB-AB39-410C-9A03-CE3998A6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C050C-AC4A-466E-BC49-1987FBD0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5719-6A38-461C-88F5-C16EA65E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AD033-A6EB-411A-A4C9-579C1FC7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280C6-855B-4715-894C-7DC315FD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D7F1A-8445-4BF5-A60F-6EE656F2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C2B6E-7FCB-47D4-8B5A-6AA9205C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8DB40-24F9-4841-B578-B40F6815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D0804-8BA4-4F73-9CE3-0D43CD38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C7744-2B7E-4DE2-A53F-C2AC4F7E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6DCA0-3289-42B4-B4DB-7207DCE8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918B5-50CB-44ED-A586-3176F80D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E0078-10B5-4F82-BA01-8DB8D9BA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D1D7-F237-4E3C-8C34-28D5A84F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684B1-2856-478F-B573-F892E6C3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F669D-8B7C-4B1D-8FAE-E861D0A0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7404E-D6C4-40C3-A393-A23845CE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934-D575-4AF7-8A00-593956EE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7396-D6FE-4A88-B20A-90ECFEE9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E1AE-0076-46EF-93E6-189819B4A1F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5501-D709-4782-8239-14C890AC26C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B332-D129-4734-8B81-8FFA88BC58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13A0-70FB-428F-B88F-C7E53DC0B07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6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47E0-C4D5-4257-954C-92ECB28A20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8D15-3702-4D1C-93B7-9BC131B59B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00720" y="188640"/>
            <a:ext cx="2843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ЗДОРОВЬЕ ЧЕЛОВЕКА</a:t>
            </a:r>
            <a:br>
              <a:rPr sz="1200"/>
            </a:br>
            <a:r>
              <a:rPr b="0" i="1" lang="en-US" sz="1200" spc="-1" strike="noStrike">
                <a:solidFill>
                  <a:srgbClr val="ffffb7"/>
                </a:solidFill>
                <a:latin typeface="Arial"/>
              </a:rPr>
              <a:t>слайд1</a:t>
            </a:r>
            <a:br>
              <a:rPr sz="4000"/>
            </a:br>
            <a:br>
              <a:rPr sz="1200"/>
            </a:b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8280" y="2997000"/>
            <a:ext cx="7446960" cy="11984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ЗДОРОВЬЕ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914400" y="2204640"/>
            <a:ext cx="8229600" cy="576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-178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b7"/>
                </a:solidFill>
                <a:latin typeface="Arial"/>
              </a:rPr>
              <a:t>ФАКТОРЫ, РАЗРУШАЮЩИЕ </a:t>
            </a:r>
            <a:br>
              <a:rPr sz="2600"/>
            </a:br>
            <a:br>
              <a:rPr sz="17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03640" y="580536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Работу выполнила: учитель биологии и хи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МАОУ «Средняя общеобразовательная шк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7"/>
                </a:solidFill>
                <a:latin typeface="Arial"/>
              </a:rPr>
              <a:t>п. Большая Вишера» Мохова Ирина Стефано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42520" cy="7923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Действие наркотиков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68360" y="1125360"/>
            <a:ext cx="4038480" cy="3456000"/>
          </a:xfrm>
          <a:prstGeom prst="rect">
            <a:avLst/>
          </a:prstGeom>
          <a:solidFill>
            <a:srgbClr val="afbf3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физическое состояние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Общее истощ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ннее поседение и полыс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рушение зуб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сстройство работы внутренних органов, прежде всего сердца и легк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Формирование слабоумия и общая деградац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Нарушение походки и координации движений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642920" y="1125360"/>
            <a:ext cx="4038840" cy="3456000"/>
          </a:xfrm>
          <a:prstGeom prst="rect">
            <a:avLst/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На психическую деятельность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езко сужается круг интере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Падает морально – этический уров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Мышление теряет логическую связь, появляются элементы бр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Развиваются рассеянность, забывчивость, переходящие в глубокую потерю памя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Грубость, злобность, необузданность, жесто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2016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Самый надежный способ профилактики наркомании – решительный отказ от первого приема наркоти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Несанкционированная продажа, распространение и хранение препаратов, содержащих наркотические вещества, преследуется по закон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440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Garamond"/>
              </a:rPr>
              <a:t>3. Табакокурение</a:t>
            </a:r>
            <a:br>
              <a:rPr sz="20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Табакокурение – наиболее распространенная вредная привычка, отрицательно влияющая на здоровье курильщика и окружающих людей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68360" y="2060640"/>
          <a:ext cx="8229600" cy="4608000"/>
        </p:xfrm>
        <a:graphic>
          <a:graphicData uri="http://schemas.openxmlformats.org/drawingml/2006/table">
            <a:tbl>
              <a:tblPr/>
              <a:tblGrid>
                <a:gridCol w="2232000"/>
                <a:gridCol w="59976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курит от случая к случаю не более 2 – 5 сигарет в день; привыкание к табаку отсутству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испытывает нестойкое влечение к табаку, выкуривает 5 – 10 сигарет в сутки, может бросить курить самостоятельн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ернут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15 – 20 сигарет в сутки, у него формируется физическая зависимость, при попытке бросить курить у него развивается тяжелое физическое и психическое состоя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19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яж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овек выкуривает 40 – 50 сигарет в сутки, часто натощак и среди ночи; ощущает непреодолимое влечение к табак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едки необратимые изменения в нервной системе, внутренних органах и кровеносных сосуд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sp>
        <p:nvSpPr>
          <p:cNvPr id="605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250920" y="1628640"/>
            <a:ext cx="8713800" cy="936720"/>
          </a:xfrm>
          <a:prstGeom prst="downArrowCallout">
            <a:avLst>
              <a:gd name="adj1" fmla="val -180115"/>
              <a:gd name="adj2" fmla="val 232561"/>
              <a:gd name="adj3" fmla="val 16667"/>
              <a:gd name="adj4" fmla="val 66667"/>
            </a:avLst>
          </a:prstGeom>
          <a:solidFill>
            <a:srgbClr val="cc9900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969696"/>
          </a:solidFill>
          <a:ln w="9360">
            <a:solidFill>
              <a:srgbClr val="cc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Наиболее опасные для организма человека </a:t>
            </a:r>
            <a:br>
              <a:rPr sz="2400"/>
            </a:b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компоненты табачного дыма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353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котин – один из самых опасных ядов, по ядовитости равен синильной кисл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0920" y="4508640"/>
            <a:ext cx="8637480" cy="865080"/>
          </a:xfrm>
          <a:prstGeom prst="upArrowCallout">
            <a:avLst>
              <a:gd name="adj1" fmla="val -197237"/>
              <a:gd name="adj2" fmla="val 249615"/>
              <a:gd name="adj3" fmla="val 16667"/>
              <a:gd name="adj4" fmla="val 666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ышьяк   - сильный канцероген, способствует развитию рака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435640" y="2565360"/>
            <a:ext cx="3240000" cy="936720"/>
          </a:xfrm>
          <a:prstGeom prst="leftArrow">
            <a:avLst>
              <a:gd name="adj1" fmla="val 50000"/>
              <a:gd name="adj2" fmla="val 86472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ммиак – разрушает слизист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олочку 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4000" y="2565360"/>
            <a:ext cx="3600360" cy="936720"/>
          </a:xfrm>
          <a:prstGeom prst="rightArrow">
            <a:avLst>
              <a:gd name="adj1" fmla="val 50000"/>
              <a:gd name="adj2" fmla="val 9609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нильная кислота –сильнейший я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окирует клеточное дых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3645000"/>
            <a:ext cx="3600360" cy="917640"/>
          </a:xfrm>
          <a:prstGeom prst="rightArrow">
            <a:avLst>
              <a:gd name="adj1" fmla="val 50000"/>
              <a:gd name="adj2" fmla="val 9808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бачный деготь – способству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ю злокачественных опухо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435640" y="3645000"/>
            <a:ext cx="3313080" cy="936360"/>
          </a:xfrm>
          <a:prstGeom prst="leftArrow">
            <a:avLst>
              <a:gd name="adj1" fmla="val 50000"/>
              <a:gd name="adj2" fmla="val 8845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гар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зко уменьш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держание кислород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3957480" y="2943360"/>
            <a:ext cx="1229040" cy="9712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0" y="5445000"/>
            <a:ext cx="1068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Наиболее эффективный способ профилактики табакоку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олный и категорический отказ от таб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36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4. Болезни, передаваемые половым путем.</a:t>
            </a:r>
            <a:br>
              <a:rPr sz="2400"/>
            </a:b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Болезни, передаваемые половым путем – это инфекционные заболевания, объединенные в одну группу по преимущественному способу заражения.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395280" y="1197000"/>
          <a:ext cx="8229600" cy="5583240"/>
        </p:xfrm>
        <a:graphic>
          <a:graphicData uri="http://schemas.openxmlformats.org/drawingml/2006/table">
            <a:tbl>
              <a:tblPr/>
              <a:tblGrid>
                <a:gridCol w="1882800"/>
                <a:gridCol w="2376360"/>
                <a:gridCol w="2232000"/>
                <a:gridCol w="17384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звание и инкубационный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словия передачи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зможные послед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норе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5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 : жар, жжение, выде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.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мптомы быстро проходя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есплодие, поражение сердца и сустав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ифил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– 4 не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пасности подвергаются члены семь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явление безболезненной язвы, увеличение лимфатических узлов, появление сып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азвитие паралича, слабоумие, рождение детей с пороками развит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Трихомони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 – 15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рез предметы домашнего обих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т больной матери к новорожденном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мужчин: бессимптомн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 женщин: Выделение, зуд, жж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оспаление внутренних половых органов, бесплод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рпе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оли внизу живота и в паху. Покраснение, появление пузырь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вторения и рециди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андид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ходится в организме бессимптом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и половом контак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уд, жжение, болезненность половых органов, выделения (у женщин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лительное течение. Повторные обостр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620" name=""/>
          <p:cNvSpPr/>
          <p:nvPr/>
        </p:nvSpPr>
        <p:spPr>
          <a:xfrm>
            <a:off x="709308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95280" y="620280"/>
            <a:ext cx="4038480" cy="259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Меры профил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Соблюдение правил личной гигие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тказ от случайных половых связ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Безопасное сексуальное повед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Немедленное обращ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 в первые 2 часа) в кожно – венерологический диспанс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0" y="620640"/>
            <a:ext cx="4038480" cy="2664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Запом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После болезней передающихся половым путем не возникает иммунитета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324000" y="3573360"/>
            <a:ext cx="8229600" cy="244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Заражение заболеваниями, передаваемыми половым путем, других лиц согласно кодексу РФ является уголовным преступлением и наказывается штрафом или лишением свободы на срок до двух л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404280"/>
            <a:ext cx="8540640" cy="129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-800280" algn="ctr">
              <a:lnSpc>
                <a:spcPct val="100000"/>
              </a:lnSpc>
              <a:buClr>
                <a:srgbClr val="ffff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АЛКОГОЛИЗМ</a:t>
            </a:r>
            <a:br>
              <a:rPr sz="23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Алкоголизм – хроническое заболевание, обусловленное систематическим, частым и неумеренным употреблением спиртных напитков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931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2200" spc="-1" strike="noStrike">
                <a:solidFill>
                  <a:srgbClr val="ff9900"/>
                </a:solidFill>
                <a:latin typeface="Tahoma"/>
              </a:rPr>
              <a:t>Стадии развития алкоголизм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755640" y="2276640"/>
          <a:ext cx="7464600" cy="4065480"/>
        </p:xfrm>
        <a:graphic>
          <a:graphicData uri="http://schemas.openxmlformats.org/drawingml/2006/table">
            <a:tbl>
              <a:tblPr/>
              <a:tblGrid>
                <a:gridCol w="3732120"/>
                <a:gridCol w="373248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ачальная (доалкогольн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начинает употреблять спиртные напитки чаще обычного, но стойкая тяга к алкоголю у него еще не закрепилас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9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грожающая (порогов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овек уже достаточно сильно пристрастился к спиртному, но у него есть еще возможность остановить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ритическ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потребление алкогольных напитков для человека становиться потребностью, которая может стать необратимо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Хроническая (полный алкоголизм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еспособность человека контролировать свои действия и поступки; частые и продолжительные запои; тяжелое опьянение с потерей сознания, а иногда и с остановкой дыха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572" name=""/>
          <p:cNvSpPr/>
          <p:nvPr/>
        </p:nvSpPr>
        <p:spPr>
          <a:xfrm>
            <a:off x="7251480" y="0"/>
            <a:ext cx="18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                       </a:t>
            </a: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Последствия</a:t>
            </a:r>
            <a:br>
              <a:rPr sz="2300"/>
            </a:br>
            <a:r>
              <a:rPr b="1" lang="en-US" sz="2300" spc="-1" strike="noStrike">
                <a:solidFill>
                  <a:srgbClr val="ffffcc"/>
                </a:solidFill>
                <a:latin typeface="Arial"/>
              </a:rPr>
              <a:t>                         злоупотребления алкоголем</a:t>
            </a:r>
            <a:endParaRPr b="0" lang="en-US" sz="2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здоровь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нервн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нарушение деятельности сердечно – сосудистой систем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расстройство работы органов пищеваре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сопротивляемости организма  многим инфекционным и простудным заболевани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1893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Для социального положения человек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Снижение эффективности труда, утрата профессиональных навык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Утрата нравственных регуляторов поведения (совесть, долг, достоинство, ответственность, тактичность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Безответственные действия, приводящие к травмам и несчастным случаям в быту, на транспорте и производств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637236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0" i="1" lang="en-US" sz="1200" spc="-1" strike="noStrike">
                <a:solidFill>
                  <a:srgbClr val="ffffcc"/>
                </a:solidFill>
                <a:latin typeface="Arial"/>
              </a:rPr>
              <a:t>слайд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авда о пив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огие считаю, что употребление пива совсем не вредно, а даже полезно. Пиво не считают алкогольным напитком, и именно с него начинается алкоголизация молодё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0" y="1890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слайд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                                             </a:t>
            </a:r>
            <a:r>
              <a:rPr b="1" i="1" lang="en-US" sz="4400" spc="-1" strike="noStrike">
                <a:solidFill>
                  <a:srgbClr val="a3c145"/>
                </a:solidFill>
                <a:latin typeface="Times New Roman"/>
              </a:rPr>
              <a:t>Содержание водки и спирта в различных сортах пи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468360" y="1989000"/>
          <a:ext cx="8229600" cy="4321080"/>
        </p:xfrm>
        <a:graphic>
          <a:graphicData uri="http://schemas.openxmlformats.org/drawingml/2006/table">
            <a:tbl>
              <a:tblPr/>
              <a:tblGrid>
                <a:gridCol w="2809800"/>
                <a:gridCol w="1452600"/>
                <a:gridCol w="1468440"/>
                <a:gridCol w="2498760"/>
              </a:tblGrid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п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цент алког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ирта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ки (м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епан Ра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и медвед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лер (безалкогольно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енигсб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лтика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ейнек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чкар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опр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"/>
          <p:cNvSpPr/>
          <p:nvPr/>
        </p:nvSpPr>
        <p:spPr>
          <a:xfrm>
            <a:off x="4572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рофилактика алког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слайд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10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Процент содержания алкоголя в различных сортах пи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71640" y="1628640"/>
            <a:ext cx="7848360" cy="5183280"/>
            <a:chOff x="971640" y="1628640"/>
            <a:chExt cx="7848360" cy="5183280"/>
          </a:xfrm>
        </p:grpSpPr>
        <p:pic>
          <p:nvPicPr>
            <p:cNvPr id="585" name="" descr=""/>
            <p:cNvPicPr/>
            <p:nvPr/>
          </p:nvPicPr>
          <p:blipFill>
            <a:blip r:embed="rId1"/>
            <a:stretch/>
          </p:blipFill>
          <p:spPr>
            <a:xfrm>
              <a:off x="971640" y="1628640"/>
              <a:ext cx="7848360" cy="51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851280" y="6165720"/>
              <a:ext cx="68112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5508720" y="0"/>
            <a:ext cx="456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250"/>
                            </p:stCondLst>
                            <p:childTnLst>
                              <p:par>
                                <p:cTn id="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9383b3"/>
                </a:solidFill>
                <a:latin typeface="Times New Roman"/>
              </a:rPr>
              <a:t>             </a:t>
            </a:r>
            <a:r>
              <a:rPr b="0" lang="en-US" sz="15100" spc="-1" strike="noStrike">
                <a:solidFill>
                  <a:srgbClr val="9383b3"/>
                </a:solidFill>
                <a:latin typeface="Times New Roman"/>
              </a:rPr>
              <a:t>?</a:t>
            </a:r>
            <a:endParaRPr b="0" lang="en-US" sz="15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Задумайтесь, так ли безобидно пиво!?</a:t>
            </a:r>
            <a:br>
              <a:rPr sz="4000"/>
            </a:br>
            <a:r>
              <a:rPr b="1" i="1" lang="en-US" sz="4000" spc="-1" strike="noStrike">
                <a:solidFill>
                  <a:srgbClr val="a3c145"/>
                </a:solidFill>
                <a:latin typeface="Times New Roman"/>
              </a:rPr>
              <a:t>Стоит ли тратить свою жизнь на такое опасное удовольствие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0" y="1159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Профилактика алкогол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слайд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Внимание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Злоупотребление алкоголем сокращает жизнь на 10 – 15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Лучший способ профилактики алкоголизма – трезвый образ жизн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Tahoma"/>
              </a:rPr>
              <a:t>Продажа алкогольной продукции лицам моложе 18 лет преследуется по закон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1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Наркомания – болезнь, характеризующаяся непреодолимым влечением к наркотикам, вызывающая в малых дозах эйфорию, в больших – оглушение, наркотический сон, смерть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тадии формирование наркотической завис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539640" y="2205000"/>
          <a:ext cx="8147160" cy="4097520"/>
        </p:xfrm>
        <a:graphic>
          <a:graphicData uri="http://schemas.openxmlformats.org/drawingml/2006/table">
            <a:tbl>
              <a:tblPr/>
              <a:tblGrid>
                <a:gridCol w="4073760"/>
                <a:gridCol w="4073400"/>
              </a:tblGrid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ч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Желание просто попробовать наркотик, стремление убежать от трудностей, потребность сделать жизнь более интересн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Осознанное привык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ланирование приема наркотиков, наркотики становятся необходимым атрибутом отды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Формирование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Наркотики не приносят удовольствия, а употребляются для приведения организма в норму; возникают проблемы со здоровьем; теряется контроль над поведен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Завершение формирования завис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00"/>
                          </a:solidFill>
                          <a:latin typeface="Tahoma"/>
                        </a:rPr>
                        <a:t>Постоянная потребность в наркотиках; большинство наркоманов, дошедших до этой стадии, погибают от передозиров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6858000" y="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слайд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7:39:55Z</dcterms:created>
  <dc:creator>Ирина</dc:creator>
  <dc:description/>
  <dc:language>en-US</dc:language>
  <cp:lastModifiedBy>Ирина</cp:lastModifiedBy>
  <dcterms:modified xsi:type="dcterms:W3CDTF">2010-06-09T05:34:25Z</dcterms:modified>
  <cp:revision>23</cp:revision>
  <dc:subject/>
  <dc:title>ФАКТОРЫ,                      РАЗРУШАЮЩИЕ                                                      ЗДОРОВЬЕ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